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0CA5-9878-4E75-8E65-08FD1FA0A7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60D-BD14-4DBE-8E68-3523DDEB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8E6-0A84-428F-9D41-94852E3F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6DE-0812-4CD9-B7D2-A44ECE70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4DB-7B9E-478C-9C1A-FDCA2A33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D4E4-5AAE-4633-BC86-BAF17EEB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F92-343F-46FF-89E8-CA3531AC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6C12-C97A-44B0-B68B-0912D857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22C-0BA1-4DE4-8805-2D9DBC4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9F75-416B-4AE6-88A3-EE04498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82D-A09F-4BAE-AD1E-4D25FABA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FCB-4C40-47AE-9A4C-2E630C3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C50-9060-4913-B0AF-AF104DF8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BC5E-90C4-4D34-94F5-56D5A8A3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CBE9-9A37-462F-9020-A16CA20A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D705-D517-4CFF-981A-B67220E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8812-028C-4699-8E68-6B6BEDC8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A513-AD79-4BB7-B635-6CB6F320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BAA-E807-4399-A414-3CC21631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E4B-A210-474B-9E04-E33AB415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4B1-BBE6-48A1-BD59-8F1809D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073-0DBC-4C39-975F-6F1DC47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8AD-8BC5-41D7-9548-8E527FC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4E3-3751-44CD-A9DB-2236231C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E33-D1DB-455F-A828-729C8FB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4C6-F090-4F56-B983-7F724BAC59ED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95A2-A0DB-4A05-9F05-1C3A1C8F3B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A1B0-5B30-4F32-A9F5-D5672AC545F9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9FB5-CA9E-4202-80D6-EE1891AFF3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lindao@uiwtx.edu" TargetMode="External"/><Relationship Id="rId2" Type="http://schemas.openxmlformats.org/officeDocument/2006/relationships/hyperlink" Target="mailto:mtaft@zogotech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AIR 200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Warehouse &amp; Reporting From BANNER, All in 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da Perez &amp; Michael Ta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nesday, February 6, 11:10 – 11:50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F6DADC3-7219-409A-B6CE-17AEC01DBA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Vendor Selection: ZogoTech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studias Data Warehouse &amp; Reporting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ocal presence in Tex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perience with Higher Ed/I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tilizes Microsoft Technolog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udent Engagement Modu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3EC2C-0B0C-47A7-8BE9-55963ED7ED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ployment Pro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d deploymen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wnloa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eck data qua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pe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rchitectur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69986-BBA9-4FB4-8A6E-262AD5AC17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rchitec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37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D064D-B75B-45A2-BA08-9BAF36DEF0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86318-6619-493D-82EE-CA31DE5ACE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320" y="22860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po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5877000" cy="30956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457200" y="1828800"/>
            <a:ext cx="23702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-based, dynamic reporting /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built for Higher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5562720"/>
            <a:ext cx="546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bove: Incoming student status. Stop Ins are computed automatically by looking at previous semester enrollment.  Note in this school the number of stop-ins has increased significantly since 2001, reflecting national trend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D05DF-8D64-4364-AF88-42670C2A7D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port Ex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5977" r="2968" b="-967"/>
          <a:stretch/>
        </p:blipFill>
        <p:spPr>
          <a:xfrm>
            <a:off x="1066680" y="1981080"/>
            <a:ext cx="7543800" cy="41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BB060-A757-473D-82D0-F5AECE075F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essons Learn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Gain support in institu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ingle person in IR/I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trong IT suppor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Long proces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Futur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4B6FC-0562-4379-A4DE-9110C24044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d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ed with standard reports used in most instit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ily allows for building of custom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friend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BBA77-9EF2-4B8F-90D5-FAB7A9CFF7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esenter Infor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da Pere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or of Institutional Resea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versity of the Incarnate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10)829-393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lindao@uiwtx.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chael Taf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ident/C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ogoTe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88) 221-6372 x8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taft@zogotech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14ECD-06F7-4479-B62D-741D9280D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ession Rules of Etiquet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e turn off your cell phone/bee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must leave the session early, please do so as discretely as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e avoid side conversation during the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ank you for your coopera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13EA3-F611-4100-988B-87782DBC25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tro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experience of new data warehouse and reporting 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efits to 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from our exper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insight on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8BF23-F9F0-46E2-BD84-16DFB100C2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opics of Discus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ing challe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 solutions (ODS, Build, Bu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dor s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/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4BC0B-07BA-46F2-967B-63A68AFAF0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porting Challe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 data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ous reports on same data don’t match (data qual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s depend on IT and/or IR for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for accurate reports for decision ma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96C86-901F-46AD-9899-10FA895849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ossible Solution: 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rom SungardH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hancements included in upgrad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pensive for small schools, especially privat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EFD8F-3EDB-40BE-AC52-3464DD9FA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ossible Solution: Buil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ully customiz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sign as required by institu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bor intens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quires a great deal of experti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intenance required by 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6053F-600C-4092-A7FB-CDEF56D15C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ossible Solution: Bu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ven to be effect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ll have to customiz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ll have to keep up with BANNER chang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DD2EC-FE58-4A79-996B-0B7F32C644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clusion: Bu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Don’t have resources/tim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S too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taff is lim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E7F4D-0AED-4B96-A590-DDB62297B1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47:00Z</dcterms:created>
  <dc:creator>Linda Perez</dc:creator>
  <dc:description/>
  <dc:language>en-US</dc:language>
  <cp:lastModifiedBy>UIW</cp:lastModifiedBy>
  <dcterms:modified xsi:type="dcterms:W3CDTF">2008-02-13T18:40:01Z</dcterms:modified>
  <cp:revision>47</cp:revision>
  <dc:subject/>
  <dc:title>Slide 1</dc:title>
</cp:coreProperties>
</file>